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85D-ADA5-4201-A064-0DB2DBCE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664-7C8D-41ED-8BE1-888A1A66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AA1-E263-4141-9F31-E1BEFCAD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3D5-FAF0-487A-96AF-5B1E1F1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5A53-BB8E-47CD-93D8-477F0707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E1EE-E012-4ECF-9E39-7C728690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AC93-1E49-413C-9729-3CBF6FA9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FEBB-3D06-4120-AB75-AE604548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6171-3B75-4340-8F8D-A16635A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8B50-A65C-4D35-BAEF-AC16F66E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7169-BA80-4CEF-BC82-791AE20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C68-F5E6-4E53-88BE-CD4081E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17B6-C8A3-426E-AB82-61F8344C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C3AB-4E68-4C17-A33F-97108ED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1193-01DD-43E3-8080-5A640514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7D2F-CE18-429A-B30F-408E8EE8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05ED-2D5B-4FF3-A404-6ED08837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D34-EA3F-46F0-ACB5-683671FE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011-A079-4500-9378-81C13CDE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BF0-9B64-4DDE-8D05-E090D449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C17-D2EB-433F-8B7E-D330C916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B7C-0096-416A-916D-C07788A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B19-6C38-4534-AC00-765F86F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007-F3B0-4B1D-ABE8-1D29733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92a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930E-0E1D-4EA7-838A-E8D9AD8368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92a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7F89-6639-4002-AD3D-17336A4BF8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8be67"/>
                </a:solidFill>
                <a:latin typeface="Arial"/>
              </a:rPr>
              <a:t>Me llamo _________ Clase 7 IL</a:t>
            </a:r>
            <a:br>
              <a:rPr sz="4000"/>
            </a:br>
            <a:r>
              <a:rPr b="0" lang="en-US" sz="4000" spc="-1" strike="noStrike">
                <a:solidFill>
                  <a:srgbClr val="58be67"/>
                </a:solidFill>
                <a:latin typeface="Arial"/>
              </a:rPr>
              <a:t>La fecha es el 26 de febrero del 2013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Verdana"/>
              </a:rPr>
              <a:t>Propósito # 60: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¿Como practicamos lo que estamos aprendiend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eer p. 100-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A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p. 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B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p. 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80316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8be67"/>
                </a:solidFill>
                <a:latin typeface="Times New Roman"/>
              </a:rPr>
              <a:t>I-</a:t>
            </a:r>
            <a:r>
              <a:rPr b="0" i="1" lang="en-US" sz="2800" spc="-1" strike="noStrike">
                <a:solidFill>
                  <a:srgbClr val="58be67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jugate the following verbs in the Pres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447920"/>
          <a:ext cx="8763120" cy="527976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Po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Ha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Tra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Ven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Te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be67"/>
                </a:solidFill>
                <a:latin typeface="Times New Roman"/>
              </a:rPr>
              <a:t>II-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sente Progresiv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 are the parts of the PRESENTE PROGRESIV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Estar” conjugated in the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present participle” according to end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2590920"/>
            <a:ext cx="259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o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am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743200" y="258912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-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-an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819520" y="4251240"/>
            <a:ext cx="2590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-ER/-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-ien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867280" y="3200400"/>
            <a:ext cx="3048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Traer/Le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-</a:t>
            </a: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Y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en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III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Saber” y “Conocer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o you use “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Sab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a fact or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how to do some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When followed by a question w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something by heart </a:t>
            </a:r>
            <a:r>
              <a:rPr b="0" i="1" lang="en-US" sz="2800" spc="-1" strike="noStrike">
                <a:solidFill>
                  <a:srgbClr val="ff66ff"/>
                </a:solidFill>
                <a:latin typeface="Verdana"/>
              </a:rPr>
              <a:t>(memor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o you use “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oc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To know someone or something very wel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When talking about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 person, don’t forget to add an “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” after ‘</a:t>
            </a:r>
            <a:r>
              <a:rPr b="0" i="1" lang="en-US" sz="2800" spc="-1" strike="noStrike">
                <a:solidFill>
                  <a:srgbClr val="ff6600"/>
                </a:solidFill>
                <a:latin typeface="Verdana"/>
              </a:rPr>
              <a:t>conocer’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conjugate these verb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143000"/>
          <a:ext cx="8229600" cy="5181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Sab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Conoc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982440"/>
            <a:ext cx="8991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 (1-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 (1-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(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QUIZ 5 ON SABER Y CONOCER TOMORROW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a 46-4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" y="290340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60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22:40:30Z</dcterms:created>
  <dc:creator>Helen Zumaeta</dc:creator>
  <dc:description/>
  <dc:language>en-US</dc:language>
  <cp:lastModifiedBy>Helen Zumaeta</cp:lastModifiedBy>
  <dcterms:modified xsi:type="dcterms:W3CDTF">2013-02-26T21:38:38Z</dcterms:modified>
  <cp:revision>7</cp:revision>
  <dc:subject/>
  <dc:title>Me llamo _________ Clase 7 IM La fecha es el 2 de diciembre del 2011</dc:title>
</cp:coreProperties>
</file>